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147-FF4D-4D92-9D5F-F01BC570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FC8-23C6-4A26-B3AB-D2E10603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D5C-F92B-417A-8020-8A1403E3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5C1-4596-4C90-9B8D-D9CC1E4E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55F-EC69-4755-9970-EE23AEE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1C4-4906-4C9E-BDBC-4C533B12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B65-E449-4309-B83B-5C7E80D1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86E-933E-49EF-9321-91982CD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D93-3C16-4903-B14F-C595596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BCE-0C37-466B-A4F6-2D839557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838-EA06-465C-9468-908D8D4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943-A9A2-4F49-B18C-AB6936B8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B05C-BADF-4C43-9B6E-F74AA8857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457200"/>
            <a:ext cx="76197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rections to Jenn and Steve's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762120"/>
            <a:ext cx="4962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643 Blue Water Drive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reeport, TX  77541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1240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1240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3200400"/>
            <a:ext cx="838440" cy="6094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r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62000" y="2046600"/>
            <a:ext cx="10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Y 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2819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M 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825000" y="44031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 792/Blue Water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5383" t="16668" r="14423" b="25642"/>
          <a:stretch/>
        </p:blipFill>
        <p:spPr>
          <a:xfrm>
            <a:off x="5257800" y="4114800"/>
            <a:ext cx="3429000" cy="211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7631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022600" y="2185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ton Ridge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124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M 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28600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yster Cre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14479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124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0958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f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60199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200400"/>
            <a:ext cx="426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HWY 332 toward Surf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North onto FM 523 at Bucee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past Oyster Creek turn east onto CR 792/Blue Water 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2.5 miles to Hide-A-Way sub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3 is over the bridge,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se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20:49:58Z</dcterms:created>
  <dc:creator>jbarr</dc:creator>
  <dc:description/>
  <dc:language>en-US</dc:language>
  <cp:lastModifiedBy>jbarr</cp:lastModifiedBy>
  <dcterms:modified xsi:type="dcterms:W3CDTF">2009-12-08T17:04:49Z</dcterms:modified>
  <cp:revision>11</cp:revision>
  <dc:subject/>
  <dc:title>Slide 1</dc:title>
</cp:coreProperties>
</file>